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D7F-E926-483E-9B65-80142737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A1C-664D-411C-BC6B-529D2DB8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191-8E17-40C5-ACF3-44C2A280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110-6FCE-4DDE-9356-212509E1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1B0-17C8-4063-8D91-7131A7B0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3CC-6843-4543-8DE5-AACD8FCB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B8D-7CDC-45B6-AA75-1A643582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70F-1047-4847-A38B-3F30B0F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468-961A-48CC-842C-35F84A51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1A8-14B0-441A-8D23-BC4182A2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880-9ED2-416A-A4E0-A36202C5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24E-1BE4-44D5-AA3B-82003575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8E85F-E4D9-48CE-9848-2239AE1DDA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44E72-4129-406F-9FF1-DF58708CA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610668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anel after cleaning, before san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Post cleaning.jpg"/>
          <p:cNvPicPr/>
          <p:nvPr/>
        </p:nvPicPr>
        <p:blipFill>
          <a:blip r:embed="rId1"/>
          <a:stretch/>
        </p:blipFill>
        <p:spPr>
          <a:xfrm>
            <a:off x="2682720" y="676440"/>
            <a:ext cx="3948120" cy="52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nding the panel to prep for shellac coa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SANDED Center.jpg"/>
          <p:cNvPicPr/>
          <p:nvPr/>
        </p:nvPicPr>
        <p:blipFill>
          <a:blip r:embed="rId1"/>
          <a:stretch/>
        </p:blipFill>
        <p:spPr>
          <a:xfrm>
            <a:off x="1415880" y="1049400"/>
            <a:ext cx="2710080" cy="361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Picture 4" descr="Sanding.jpg"/>
          <p:cNvPicPr/>
          <p:nvPr/>
        </p:nvPicPr>
        <p:blipFill>
          <a:blip r:embed="rId2"/>
          <a:stretch/>
        </p:blipFill>
        <p:spPr>
          <a:xfrm>
            <a:off x="4908600" y="1049400"/>
            <a:ext cx="2708280" cy="361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Shellac.jpg"/>
          <p:cNvPicPr/>
          <p:nvPr/>
        </p:nvPicPr>
        <p:blipFill>
          <a:blip r:embed="rId1"/>
          <a:stretch/>
        </p:blipFill>
        <p:spPr>
          <a:xfrm>
            <a:off x="4998960" y="963720"/>
            <a:ext cx="3687840" cy="49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Picture 4" descr="Sanded2.jpg"/>
          <p:cNvPicPr/>
          <p:nvPr/>
        </p:nvPicPr>
        <p:blipFill>
          <a:blip r:embed="rId2"/>
          <a:stretch/>
        </p:blipFill>
        <p:spPr>
          <a:xfrm>
            <a:off x="946080" y="985680"/>
            <a:ext cx="316080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5" descr="1st coat-2.jpg"/>
          <p:cNvPicPr/>
          <p:nvPr/>
        </p:nvPicPr>
        <p:blipFill>
          <a:blip r:embed="rId3"/>
          <a:stretch/>
        </p:blipFill>
        <p:spPr>
          <a:xfrm>
            <a:off x="936720" y="3552840"/>
            <a:ext cx="3170160" cy="23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TextBox 6"/>
          <p:cNvSpPr/>
          <p:nvPr/>
        </p:nvSpPr>
        <p:spPr>
          <a:xfrm>
            <a:off x="2819520" y="628668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irst application of clear shella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760" y="51246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Left: Post shellac application. Right: Comparison between the two pane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1st coat.jpg"/>
          <p:cNvPicPr/>
          <p:nvPr/>
        </p:nvPicPr>
        <p:blipFill>
          <a:blip r:embed="rId1"/>
          <a:stretch/>
        </p:blipFill>
        <p:spPr>
          <a:xfrm>
            <a:off x="322200" y="720720"/>
            <a:ext cx="2795760" cy="37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6" descr="comparison.jpg"/>
          <p:cNvPicPr/>
          <p:nvPr/>
        </p:nvPicPr>
        <p:blipFill>
          <a:blip r:embed="rId2"/>
          <a:stretch/>
        </p:blipFill>
        <p:spPr>
          <a:xfrm>
            <a:off x="3662280" y="720720"/>
            <a:ext cx="4969080" cy="37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6080" y="5715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end result: a step closer to its earlier appear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inal Product1.jpg"/>
          <p:cNvPicPr/>
          <p:nvPr/>
        </p:nvPicPr>
        <p:blipFill>
          <a:blip r:embed="rId1"/>
          <a:stretch/>
        </p:blipFill>
        <p:spPr>
          <a:xfrm>
            <a:off x="4995720" y="819000"/>
            <a:ext cx="3327480" cy="472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4" descr="final product2.jpg"/>
          <p:cNvPicPr/>
          <p:nvPr/>
        </p:nvPicPr>
        <p:blipFill>
          <a:blip r:embed="rId2"/>
          <a:stretch/>
        </p:blipFill>
        <p:spPr>
          <a:xfrm>
            <a:off x="892080" y="819000"/>
            <a:ext cx="3538800" cy="472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3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efore and after cleaning of nickel-plated copper sink, returned to its place of orig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4b7a4ab56277__1289848783000.jpg"/>
          <p:cNvPicPr/>
          <p:nvPr/>
        </p:nvPicPr>
        <p:blipFill>
          <a:blip r:embed="rId1"/>
          <a:stretch/>
        </p:blipFill>
        <p:spPr>
          <a:xfrm>
            <a:off x="687240" y="603360"/>
            <a:ext cx="316260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4" descr="Copper Sink 1.jpg"/>
          <p:cNvPicPr/>
          <p:nvPr/>
        </p:nvPicPr>
        <p:blipFill>
          <a:blip r:embed="rId2"/>
          <a:stretch/>
        </p:blipFill>
        <p:spPr>
          <a:xfrm>
            <a:off x="687240" y="3000240"/>
            <a:ext cx="31626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5" descr="sink in place.jpg"/>
          <p:cNvPicPr/>
          <p:nvPr/>
        </p:nvPicPr>
        <p:blipFill>
          <a:blip r:embed="rId3"/>
          <a:stretch/>
        </p:blipFill>
        <p:spPr>
          <a:xfrm>
            <a:off x="4905360" y="603360"/>
            <a:ext cx="3519360" cy="469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91300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rofessor Abraham takes a seat on the tr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Abraham.jpg"/>
          <p:cNvPicPr/>
          <p:nvPr/>
        </p:nvPicPr>
        <p:blipFill>
          <a:blip r:embed="rId1"/>
          <a:stretch/>
        </p:blipFill>
        <p:spPr>
          <a:xfrm>
            <a:off x="2575080" y="396720"/>
            <a:ext cx="3987720" cy="529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8:27:19Z</dcterms:created>
  <dc:creator>Caitlin Chamberlain</dc:creator>
  <dc:description/>
  <dc:language>en-US</dc:language>
  <cp:lastModifiedBy>Caitlin Chamberlain</cp:lastModifiedBy>
  <dcterms:modified xsi:type="dcterms:W3CDTF">2010-11-15T22:51:13Z</dcterms:modified>
  <cp:revision>7</cp:revision>
  <dc:subject/>
  <dc:title>Slide 1</dc:title>
</cp:coreProperties>
</file>