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8D1-B01F-44E6-A75D-A19656C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EBB-96BC-4FC8-AB46-D392399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DE0-36D5-4B5F-8E36-D86BCC5A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B96-499B-459A-BB0C-D3EABF3E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92B-8311-4F51-82FE-AEE1570D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1D5-69BC-4ACF-A9D2-C95273B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D27-F191-4009-9189-682627D0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948-DEC5-461A-9557-2F970D8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158-508A-49A1-AA7F-04F19CC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721-8F72-4294-B140-56C3976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C1-38A6-49C7-ABEB-CD0CAD7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BF0-AA00-4F12-A345-90332B4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309B5-54BA-4A66-87CE-9FF31957A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908EB-54DC-493C-8B7C-B2825E951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10668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anel after cleaning, before san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Post cleaning.jpg"/>
          <p:cNvPicPr/>
          <p:nvPr/>
        </p:nvPicPr>
        <p:blipFill>
          <a:blip r:embed="rId1"/>
          <a:stretch/>
        </p:blipFill>
        <p:spPr>
          <a:xfrm>
            <a:off x="2682720" y="676440"/>
            <a:ext cx="3948120" cy="52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nding the panel to prep for shellac coa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SANDED Center.jpg"/>
          <p:cNvPicPr/>
          <p:nvPr/>
        </p:nvPicPr>
        <p:blipFill>
          <a:blip r:embed="rId1"/>
          <a:stretch/>
        </p:blipFill>
        <p:spPr>
          <a:xfrm>
            <a:off x="1415880" y="1049400"/>
            <a:ext cx="2710080" cy="36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Picture 4" descr="Sanding.jpg"/>
          <p:cNvPicPr/>
          <p:nvPr/>
        </p:nvPicPr>
        <p:blipFill>
          <a:blip r:embed="rId2"/>
          <a:stretch/>
        </p:blipFill>
        <p:spPr>
          <a:xfrm>
            <a:off x="4908600" y="1049400"/>
            <a:ext cx="2708280" cy="36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Shellac.jpg"/>
          <p:cNvPicPr/>
          <p:nvPr/>
        </p:nvPicPr>
        <p:blipFill>
          <a:blip r:embed="rId1"/>
          <a:stretch/>
        </p:blipFill>
        <p:spPr>
          <a:xfrm>
            <a:off x="4998960" y="963720"/>
            <a:ext cx="3687840" cy="49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4" descr="Sanded2.jpg"/>
          <p:cNvPicPr/>
          <p:nvPr/>
        </p:nvPicPr>
        <p:blipFill>
          <a:blip r:embed="rId2"/>
          <a:stretch/>
        </p:blipFill>
        <p:spPr>
          <a:xfrm>
            <a:off x="946080" y="985680"/>
            <a:ext cx="316080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5" descr="1st coat-2.jpg"/>
          <p:cNvPicPr/>
          <p:nvPr/>
        </p:nvPicPr>
        <p:blipFill>
          <a:blip r:embed="rId3"/>
          <a:stretch/>
        </p:blipFill>
        <p:spPr>
          <a:xfrm>
            <a:off x="936720" y="3552840"/>
            <a:ext cx="3170160" cy="23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Box 6"/>
          <p:cNvSpPr/>
          <p:nvPr/>
        </p:nvSpPr>
        <p:spPr>
          <a:xfrm>
            <a:off x="2819520" y="628668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irst application of clear shella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760" y="51246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ft: Post shellac application. Right: Comparison between the two pan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1st coat.jpg"/>
          <p:cNvPicPr/>
          <p:nvPr/>
        </p:nvPicPr>
        <p:blipFill>
          <a:blip r:embed="rId1"/>
          <a:stretch/>
        </p:blipFill>
        <p:spPr>
          <a:xfrm>
            <a:off x="322200" y="720720"/>
            <a:ext cx="279576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6" descr="comparison.jpg"/>
          <p:cNvPicPr/>
          <p:nvPr/>
        </p:nvPicPr>
        <p:blipFill>
          <a:blip r:embed="rId2"/>
          <a:stretch/>
        </p:blipFill>
        <p:spPr>
          <a:xfrm>
            <a:off x="3662280" y="720720"/>
            <a:ext cx="4969080" cy="37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080" y="5715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end result: a step closer to its earlier appear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inal Product1.jpg"/>
          <p:cNvPicPr/>
          <p:nvPr/>
        </p:nvPicPr>
        <p:blipFill>
          <a:blip r:embed="rId1"/>
          <a:stretch/>
        </p:blipFill>
        <p:spPr>
          <a:xfrm>
            <a:off x="4995720" y="819000"/>
            <a:ext cx="332748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4" descr="final product2.jpg"/>
          <p:cNvPicPr/>
          <p:nvPr/>
        </p:nvPicPr>
        <p:blipFill>
          <a:blip r:embed="rId2"/>
          <a:stretch/>
        </p:blipFill>
        <p:spPr>
          <a:xfrm>
            <a:off x="892080" y="819000"/>
            <a:ext cx="3538800" cy="472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3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efore and after cleaning of nickel-plated copper sink, returned to its place of orig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4b7a4ab56277__1289848783000.jpg"/>
          <p:cNvPicPr/>
          <p:nvPr/>
        </p:nvPicPr>
        <p:blipFill>
          <a:blip r:embed="rId1"/>
          <a:stretch/>
        </p:blipFill>
        <p:spPr>
          <a:xfrm>
            <a:off x="687240" y="603360"/>
            <a:ext cx="316260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4" descr="Copper Sink 1.jpg"/>
          <p:cNvPicPr/>
          <p:nvPr/>
        </p:nvPicPr>
        <p:blipFill>
          <a:blip r:embed="rId2"/>
          <a:stretch/>
        </p:blipFill>
        <p:spPr>
          <a:xfrm>
            <a:off x="687240" y="3000240"/>
            <a:ext cx="31626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5" descr="sink in place.jpg"/>
          <p:cNvPicPr/>
          <p:nvPr/>
        </p:nvPicPr>
        <p:blipFill>
          <a:blip r:embed="rId3"/>
          <a:stretch/>
        </p:blipFill>
        <p:spPr>
          <a:xfrm>
            <a:off x="4905360" y="603360"/>
            <a:ext cx="3519360" cy="46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91300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ofessor Abraham takes a seat on the tr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Abraham.jpg"/>
          <p:cNvPicPr/>
          <p:nvPr/>
        </p:nvPicPr>
        <p:blipFill>
          <a:blip r:embed="rId1"/>
          <a:stretch/>
        </p:blipFill>
        <p:spPr>
          <a:xfrm>
            <a:off x="2575080" y="396720"/>
            <a:ext cx="3987720" cy="52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8:27:19Z</dcterms:created>
  <dc:creator>Caitlin Chamberlain</dc:creator>
  <dc:description/>
  <dc:language>en-US</dc:language>
  <cp:lastModifiedBy>Caitlin Chamberlain</cp:lastModifiedBy>
  <dcterms:modified xsi:type="dcterms:W3CDTF">2010-11-15T22:51:13Z</dcterms:modified>
  <cp:revision>7</cp:revision>
  <dc:subject/>
  <dc:title>Slide 1</dc:title>
</cp:coreProperties>
</file>